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3F25DE6-5DB9-4BDB-B2BA-4A9ABE9C4D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4F481EA-3311-47C9-8BCA-CE944E41A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A91AA7B-F6D6-440E-8DBD-CBA9A3B57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7CC-309F-4524-9156-93246D19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A3F-8F87-437A-B235-9F6C7CA5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899-4EF8-47CE-98C4-793B2ABB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7AF-AFE3-401D-B004-C87EF574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BDA-FB9D-4DCA-9BFA-47110D20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36C-1CC1-4ECF-9932-61FDBFDC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2C4-03DF-4E39-9FC2-82E31CC9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9F6-BFF1-49AE-8163-F5594DF7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F45-35BD-4F76-A842-3E9FC0FD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BFF-BE6E-452F-AFAE-3AB4CD41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F9E-E49A-43E6-88E8-100311A5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C3D-E21F-475D-A0C7-37269B3E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97AAEBB-6A38-4941-90E2-0B85D414DE39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67C76B1-30FB-465A-B595-D1065DDD1A19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0402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304920" y="91440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rite all nouns as plural possess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xample: the kings’ crow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80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ictionary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ok up 6 spelling words in the dictionary. List their guide words (from the top of the pag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160800" y="4952880"/>
            <a:ext cx="32796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xt organization. Decide what spelling words belong together. Group them into, at least, two groups. Provide a title for each grou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x: r- controlled with “or” ie. born, “ore” ie. sn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70572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 be answered by a storie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519360" y="990720"/>
            <a:ext cx="25624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rite each word in cursive tw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rite about a person in your family. Include when &amp; where they were born, information about their childhood, and their career choic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Biographies.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7924680" y="4572000"/>
            <a:ext cx="16765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2"/>
          <p:cNvSpPr/>
          <p:nvPr/>
        </p:nvSpPr>
        <p:spPr>
          <a:xfrm>
            <a:off x="4648320" y="7010280"/>
            <a:ext cx="1904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2:38:54Z</dcterms:created>
  <dc:creator> </dc:creator>
  <dc:description/>
  <dc:language>en-US</dc:language>
  <cp:lastModifiedBy>Kathryn Cobb</cp:lastModifiedBy>
  <cp:lastPrinted>2009-02-27T12:20:35Z</cp:lastPrinted>
  <dcterms:modified xsi:type="dcterms:W3CDTF">2009-02-27T12:21:02Z</dcterms:modified>
  <cp:revision>5</cp:revision>
  <dc:subject/>
  <dc:title>Slide 1</dc:title>
</cp:coreProperties>
</file>